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13.gif" ContentType="image/gif"/>
  <Override PartName="/ppt/media/image9.pct" ContentType="image/x-pict"/>
  <Override PartName="/ppt/media/image8.gif" ContentType="image/gif"/>
  <Override PartName="/ppt/media/image17.pct" ContentType="image/x-pict"/>
  <Override PartName="/ppt/media/image16.pct" ContentType="image/x-pict"/>
  <Override PartName="/ppt/media/image14.pct" ContentType="image/x-pict"/>
  <Override PartName="/ppt/media/image15.pct" ContentType="image/x-pict"/>
  <Override PartName="/ppt/media/image1.gif" ContentType="image/gif"/>
  <Override PartName="/ppt/media/image2.pct" ContentType="image/x-pict"/>
  <Override PartName="/ppt/media/image3.pct" ContentType="image/x-pict"/>
  <Override PartName="/ppt/media/image4.pct" ContentType="image/x-pict"/>
  <Override PartName="/ppt/media/image5.gif" ContentType="image/gif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A53-A4CD-4BA1-9379-8EED3D00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597-FCA3-4A83-AE66-1737C717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E0E-6905-49A9-BDEC-30CC6848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BBE-DF59-4460-AAEA-E65193EC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8DB-D671-44BE-AFC8-1DC7FD0A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009-3A61-4CFB-8A49-88D43CFA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28E-6C6C-4136-888E-C80AA6A5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EB2-54AC-420A-BD7D-89FE2AEF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F7E-0C2A-48AB-82A7-BBE5CAD5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ADC-4E92-472F-9126-BF1C4157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8DA-A8AF-4635-8CA5-DD68E82A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B05-CF22-48AF-8695-C1A36DF0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DA71-5970-4C58-8C9F-211EE6DB2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ct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ct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ct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066680"/>
            <a:ext cx="7010280" cy="202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ASIC PRINCIPLE OF SATELLITE PI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3276720"/>
            <a:ext cx="502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 objective of this practical work is first to understand how a satellite picture can be built and second to study the basic principles of such pictures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1189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457200"/>
            <a:ext cx="8153280" cy="2288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Times New Roman"/>
              </a:rPr>
              <a:t>Divide the historigram into 4 parts and determine the bo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) for the water area  20 &lt; radiometrical value of water &lt; 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) for the forest area 45 &lt; radiometrical value of forest &lt;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) for the cultivated area 90 &lt; radiometrical value of areas under cultivations  &lt; 1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) for the bare soil area 140 &lt; radiometrical value of soil &lt; 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62120" cy="7034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1371600" y="3733920"/>
            <a:ext cx="4648320" cy="2906640"/>
            <a:chOff x="1371600" y="3733920"/>
            <a:chExt cx="4648320" cy="2906640"/>
          </a:xfrm>
        </p:grpSpPr>
        <p:graphicFrame>
          <p:nvGraphicFramePr>
            <p:cNvPr id="83" name=""/>
            <p:cNvGraphicFramePr/>
            <p:nvPr/>
          </p:nvGraphicFramePr>
          <p:xfrm>
            <a:off x="1371600" y="3733920"/>
            <a:ext cx="4648320" cy="290664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71600" y="3733920"/>
                      <a:ext cx="4648320" cy="29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"/>
            <p:cNvSpPr/>
            <p:nvPr/>
          </p:nvSpPr>
          <p:spPr>
            <a:xfrm flipV="1">
              <a:off x="2819520" y="3809880"/>
              <a:ext cx="0" cy="2362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505320" y="3809880"/>
              <a:ext cx="0" cy="2362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105520" y="3809880"/>
              <a:ext cx="0" cy="2362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19320" y="838080"/>
            <a:ext cx="70866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Colour each byte and compare the result with the fictive i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7400" y="1752480"/>
          <a:ext cx="5857920" cy="45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585792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76212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2057400"/>
          <a:ext cx="5029200" cy="39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50292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886200" y="1981080"/>
          <a:ext cx="4952880" cy="3851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981080"/>
                    <a:ext cx="495288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990720" y="609480"/>
            <a:ext cx="438120" cy="959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66880" y="685800"/>
            <a:ext cx="44960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rison of the image with the fictive land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213372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 of the radiomet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 for water: 33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 for the forest area: 3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) for the cultivated area: 18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) for the bare soil area:  19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228600"/>
            <a:ext cx="731520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Calculate the surface of the cultivated area, of the bare soil area, of the water area and of the forest area, knowing that one pixel represents a surface of 20 m by 20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76520" y="4572000"/>
          <a:ext cx="3379680" cy="147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572000"/>
                    <a:ext cx="337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28600" y="609480"/>
            <a:ext cx="76212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4735440" cy="4754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14400" y="144792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541008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286000"/>
            <a:ext cx="2286000" cy="284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gure 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represents a fictive landscape such as it could be seen from a 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124080" y="1295280"/>
            <a:ext cx="4508640" cy="4394160"/>
            <a:chOff x="3124080" y="1295280"/>
            <a:chExt cx="4508640" cy="439416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124080" y="1295280"/>
              <a:ext cx="4508640" cy="43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095880" y="3124080"/>
              <a:ext cx="1257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or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52600" y="2552400"/>
              <a:ext cx="1257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66800" y="1523880"/>
              <a:ext cx="1257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Cultivated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81280" y="4724280"/>
              <a:ext cx="1257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Bare so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914400"/>
            <a:ext cx="7696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gure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s a space cut-out of that same landsc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0" y="1600200"/>
          <a:ext cx="5761080" cy="44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00200"/>
                    <a:ext cx="576108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90720" y="3581280"/>
            <a:ext cx="1218960" cy="533520"/>
          </a:xfrm>
          <a:prstGeom prst="wedgeRoundRectCallout">
            <a:avLst>
              <a:gd name="adj1" fmla="val 123699"/>
              <a:gd name="adj2" fmla="val 318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76520" y="838080"/>
            <a:ext cx="6933960" cy="2288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ptors on board satellites have been designed in such a way as to to pick up electromagnetic radiations separately according to different intervals of wavelengths of the electromagnetic spectrum called chann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SPOT, for example, there are three chann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-380880" y="3809880"/>
          <a:ext cx="12006000" cy="261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3809880"/>
                    <a:ext cx="12006000" cy="26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62120" y="1219320"/>
            <a:ext cx="4381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28800" y="1143000"/>
          <a:ext cx="5867280" cy="41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43000"/>
                    <a:ext cx="586728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14400" y="457200"/>
            <a:ext cx="73915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 three different channels give three different « imag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19520" y="457200"/>
            <a:ext cx="4495680" cy="2288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analogical &gt; digital converter transforms the photosensitive cells’mV into numbers from 0 to 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Which means that 1 pixel = 1 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09680" y="3627360"/>
          <a:ext cx="6842160" cy="206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627360"/>
                    <a:ext cx="684216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066680" y="457200"/>
            <a:ext cx="1231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1219320"/>
            <a:ext cx="312408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Figur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ives the numerical values of the electric signals picked up by the satellite’s cap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aptor transforms the light it receives into electric current. In this example, the values correspond to the digitalisation of the electric signal given by the captor  XS-3 on board the SPOT satell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886200" y="1066680"/>
          <a:ext cx="5857920" cy="45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066680"/>
                    <a:ext cx="585792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685800"/>
            <a:ext cx="79250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rt 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gives you the number of bytes (N) according to the digitalised radiomet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43000" y="1981080"/>
          <a:ext cx="6453360" cy="182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6453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143000" y="4267080"/>
          <a:ext cx="6453360" cy="18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267080"/>
                    <a:ext cx="6453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4191120" y="3962520"/>
            <a:ext cx="685800" cy="75960"/>
          </a:xfrm>
          <a:custGeom>
            <a:avLst/>
            <a:gdLst>
              <a:gd name="textAreaLeft" fmla="*/ 0 w 685800"/>
              <a:gd name="textAreaRight" fmla="*/ 686160 w 685800"/>
              <a:gd name="textAreaTop" fmla="*/ 9720 h 75960"/>
              <a:gd name="textAreaBottom" fmla="*/ 662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3049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04920"/>
            <a:ext cx="64767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Times New Roman"/>
              </a:rPr>
              <a:t>Use a spreadsheet in order to draw a diagram showing the number of bytes according to the radiometrical values (hist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447920" y="2971800"/>
          <a:ext cx="670716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971800"/>
                    <a:ext cx="6707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0880" y="685800"/>
            <a:ext cx="76212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16:16:05Z</dcterms:created>
  <dc:creator>Dominique Lambert</dc:creator>
  <dc:description/>
  <dc:language>en-US</dc:language>
  <cp:lastModifiedBy>Dominique Lambert</cp:lastModifiedBy>
  <dcterms:modified xsi:type="dcterms:W3CDTF">2005-09-18T16:10:04Z</dcterms:modified>
  <cp:revision>40</cp:revision>
  <dc:subject/>
  <dc:title>Présentation PowerPoint</dc:title>
</cp:coreProperties>
</file>